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wmf" ContentType="image/x-wmf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88AF-2DDF-48C4-BA4A-7205D6C29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2670-745E-41BC-9BB2-22AB8B970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74AF-DB62-45DB-BED0-1432AC4FB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53AE-F1DD-48E3-A6CC-097D19813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9EBD4-2D2F-4B44-A8F8-84C7249E9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504F5-05CD-488A-914D-35F15C272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F3BC2-CC94-4AE2-AE34-5C9D2A603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1A8EE-7DAA-4DCF-890A-323EBD641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1860D-7891-4997-81C0-FB5E196CF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939BF-0674-4B0D-B228-33AF49B59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DE0E0-6E5C-43F1-B95D-258BA529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F7EB-85C4-40AE-9F4A-BAEA7BB74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44459-2433-4D11-B6F9-893025D2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650F0-6F27-4620-AA71-28BCD97C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D1454-666C-4C83-8A53-A16E20A74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F7EEC-E33A-4D2A-8731-96C51DB73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A1565-8193-4A31-89EB-17FB8C2B3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B0F90-89E1-44C1-9D8F-EFE755789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D5D98-6E3B-49CD-8607-3B624A4ED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31709-ABEA-4A1D-8E51-6EC0D92CA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5C47F-0174-47A3-8B5C-E0BE18A46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DFBF1-8EC3-4F42-ABB4-8C38638CE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CB3B-2A53-4A12-BD35-08D839670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12CBC-27FA-4D95-9BC9-183A3B059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6FF25-D9AA-4572-96D7-84637604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96023-F00B-4823-BB46-4544009B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6F0A2-820F-4DB3-A778-5E4826A6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2B09E-578C-4672-B63A-D686DA0EF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D7267-7031-4ACD-B71A-338D2C0DF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F720D-7EBC-4EF4-82F0-99BEF05D0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CE23-4F34-49A9-BE68-635AC6D78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8525-99B9-4548-BADD-2E182E752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0335-E0F2-4B7B-A7AC-0A3FA4105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BAA8-820F-40FF-ABC9-7943975F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36FD-01A3-4DD3-9021-EF2D0665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7619-1DBC-413F-B4D5-696C88A4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FEFF2-32A5-482B-84E4-020D93CFC6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E321C-2C86-4A98-A5C9-C6918CA0173C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1590D-877B-4B93-A142-C4335DF87D2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Unicode MS"/>
              </a:rPr>
              <a:t>Word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905120" y="26668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ess Who or What 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219320" y="4267080"/>
            <a:ext cx="1571400" cy="13701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324480" y="3809880"/>
            <a:ext cx="1521000" cy="1797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6781680" y="990720"/>
            <a:ext cx="1676520" cy="16761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685800" y="914400"/>
            <a:ext cx="1198440" cy="16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1"/>
          <a:srcRect l="11896" t="21875" r="10468" b="11914"/>
          <a:stretch/>
        </p:blipFill>
        <p:spPr>
          <a:xfrm>
            <a:off x="685800" y="1295280"/>
            <a:ext cx="757224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rcRect l="10231" t="21575" r="11534" b="1367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"/>
          <p:cNvPicPr/>
          <p:nvPr/>
        </p:nvPicPr>
        <p:blipFill>
          <a:blip r:embed="rId1"/>
          <a:srcRect l="9375" t="18282" r="10866" b="1362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/>
          <p:cNvPicPr/>
          <p:nvPr/>
        </p:nvPicPr>
        <p:blipFill>
          <a:blip r:embed="rId1"/>
          <a:srcRect l="9375" t="21644" r="11147" b="1007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rcRect l="9290" t="23022" r="10973" b="8765"/>
          <a:stretch/>
        </p:blipFill>
        <p:spPr>
          <a:xfrm>
            <a:off x="609480" y="1219320"/>
            <a:ext cx="76154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/>
          <a:srcRect l="9095" t="35635" r="9191" b="6250"/>
          <a:stretch/>
        </p:blipFill>
        <p:spPr>
          <a:xfrm>
            <a:off x="0" y="-1522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rcRect l="10051" t="27426" r="12291" b="2070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rcRect l="9515" t="19218" r="11007" b="1586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3" descr=""/>
          <p:cNvPicPr/>
          <p:nvPr/>
        </p:nvPicPr>
        <p:blipFill>
          <a:blip r:embed="rId1"/>
          <a:srcRect l="10682" t="20290" r="10822" b="11988"/>
          <a:stretch/>
        </p:blipFill>
        <p:spPr>
          <a:xfrm>
            <a:off x="228600" y="228600"/>
            <a:ext cx="87631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"/>
          <p:cNvPicPr/>
          <p:nvPr/>
        </p:nvPicPr>
        <p:blipFill>
          <a:blip r:embed="rId1"/>
          <a:srcRect l="9412" t="18150" r="11051" b="13233"/>
          <a:stretch/>
        </p:blipFill>
        <p:spPr>
          <a:xfrm>
            <a:off x="0" y="587520"/>
            <a:ext cx="9137520" cy="57798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5867280" y="2133720"/>
            <a:ext cx="304920" cy="190440"/>
          </a:xfrm>
          <a:prstGeom prst="borderCallout2">
            <a:avLst>
              <a:gd name="adj1" fmla="val 18750"/>
              <a:gd name="adj2" fmla="val -8333"/>
              <a:gd name="adj3" fmla="val 60000"/>
              <a:gd name="adj4" fmla="val -25000"/>
              <a:gd name="adj5" fmla="val 140000"/>
              <a:gd name="adj6" fmla="val -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rcRect l="9166" t="20003" r="10835" b="1111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10302840" y="7315200"/>
            <a:ext cx="60480" cy="46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"/>
          <p:cNvPicPr/>
          <p:nvPr/>
        </p:nvPicPr>
        <p:blipFill>
          <a:blip r:embed="rId2"/>
          <a:stretch/>
        </p:blipFill>
        <p:spPr>
          <a:xfrm>
            <a:off x="5537160" y="5867280"/>
            <a:ext cx="60480" cy="460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"/>
          <p:cNvPicPr/>
          <p:nvPr/>
        </p:nvPicPr>
        <p:blipFill>
          <a:blip r:embed="rId3"/>
          <a:srcRect l="16119" t="31732" r="11250" b="7431"/>
          <a:stretch/>
        </p:blipFill>
        <p:spPr>
          <a:xfrm>
            <a:off x="0" y="-152280"/>
            <a:ext cx="914400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"/>
          <p:cNvPicPr/>
          <p:nvPr/>
        </p:nvPicPr>
        <p:blipFill>
          <a:blip r:embed="rId1"/>
          <a:srcRect l="8594" t="19791" r="10155" b="13540"/>
          <a:stretch/>
        </p:blipFill>
        <p:spPr>
          <a:xfrm>
            <a:off x="533520" y="990720"/>
            <a:ext cx="79246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9166" t="20003" r="10835" b="1111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rcRect l="9796" t="18287" r="11287" b="1343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rcRect l="9515" t="18282" r="10866" b="12874"/>
          <a:stretch/>
        </p:blipFill>
        <p:spPr>
          <a:xfrm>
            <a:off x="-30240" y="0"/>
            <a:ext cx="9174240" cy="69753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238880" y="2095560"/>
            <a:ext cx="91440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8333"/>
              <a:gd name="adj5" fmla="val 43750"/>
              <a:gd name="adj6" fmla="val -833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rcRect l="9497" t="23051" r="11121" b="10226"/>
          <a:stretch/>
        </p:blipFill>
        <p:spPr>
          <a:xfrm>
            <a:off x="228600" y="914400"/>
            <a:ext cx="7742160" cy="50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rcRect l="9419" t="23460" r="10962" b="10866"/>
          <a:stretch/>
        </p:blipFill>
        <p:spPr>
          <a:xfrm>
            <a:off x="181080" y="0"/>
            <a:ext cx="88866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rcRect l="9279" t="32977" r="10962" b="1031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6:46:19Z</dcterms:created>
  <dc:creator>falcon19</dc:creator>
  <dc:description/>
  <dc:language>en-US</dc:language>
  <cp:lastModifiedBy>Patrick J. Mooney</cp:lastModifiedBy>
  <dcterms:modified xsi:type="dcterms:W3CDTF">2011-03-10T15:25:19Z</dcterms:modified>
  <cp:revision>9</cp:revision>
  <dc:subject/>
  <dc:title>Slide 1</dc:title>
</cp:coreProperties>
</file>